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his%20is%20Jeopardy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029-B0BD-4E56-BBFC-16332065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94F-1AD0-4325-8456-C40DC41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80E-B0A9-4DB9-BC50-23B02006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A81-C234-4A28-9F17-1B932E7A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4B1-5510-4424-9AEF-0A141CC7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94D-A20B-4A98-9A98-F1B42128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6F1-05EE-49C1-B4F5-59A91A69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052-B7A6-41DB-9B25-050A48A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2F7-2BB8-48FC-91B0-B0609E2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56E-A60B-432E-A183-519909B8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852-177F-4A2B-BAA2-3BA6EBE5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C7F-DCC8-41F2-8755-2BAB17B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1047-74A8-4786-BEBE-3913DC772070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" Target="slide13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" Target="slide26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18.xml"/><Relationship Id="rId27" Type="http://schemas.openxmlformats.org/officeDocument/2006/relationships/slide" Target="slide23.xml"/><Relationship Id="rId28" Type="http://schemas.openxmlformats.org/officeDocument/2006/relationships/slide" Target="slide28.xml"/><Relationship Id="rId29" Type="http://schemas.openxmlformats.org/officeDocument/2006/relationships/slide" Target=""/><Relationship Id="rId30" Type="http://schemas.openxmlformats.org/officeDocument/2006/relationships/image" Target="../media/image3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880" y="5943600"/>
            <a:ext cx="23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Written by Roland William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15238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05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lbert Einste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li Whitne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enry Ford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051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hael Farada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143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Using knowledge and resources to create products that extend our capabilities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3716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Creation of a new and unique produc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7925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Study the natural world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21932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process of altering an existing product or system to improve it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2193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human made objec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066680"/>
            <a:ext cx="78487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characteristics of a person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990720"/>
            <a:ext cx="784836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effects of technology on people, their cultures, economics, and their politics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914400"/>
            <a:ext cx="761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Defining the problem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Brainstorming a solu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Generating idea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dentifying criteria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Exploring possibiliti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Selecting an approach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Making a model or prototyp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Testing or evaluating the desig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Refining the desig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447920"/>
            <a:ext cx="815328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A full-size working model used to test a design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762120"/>
            <a:ext cx="7925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Decreasing the overall capabilities of a product or system in order to increase its ability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bar which lies on a fixed support known as a fulcrum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828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chain or rope wrapped around a grooved wheel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mooth slanted surface, such as a ramp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piece of metal or wood with one or two inclined plan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0666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simple machine made up of two circl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venti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achin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Technolog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vento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990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change created by improving an existing technology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Orville &amp; Wilbur Wrigh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George Washington Carve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Thomas Edis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Benjamin Frankli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was Galileo Galilei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telephon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atom bomb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cotton gi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assembly lin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133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rplan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nvented the electric moto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echnolog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ven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cienc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nova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artifac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ttribut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societal impact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6002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ngineering design proces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rototyp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eanut Butt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pecialization of func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leve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pulle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inclined plan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wedg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wheel and axl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nnovat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honograph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523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ifocal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Microscop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lexander Graham Bell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Flanders</cp:lastModifiedBy>
  <dcterms:modified xsi:type="dcterms:W3CDTF">2010-02-01T21:22:39Z</dcterms:modified>
  <cp:revision>30</cp:revision>
  <dc:subject/>
  <dc:title>No Slide Title</dc:title>
</cp:coreProperties>
</file>